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47183-A142-469A-A7B7-0C8952D0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B52E3-E9E7-4365-BFFA-616148D3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785A-37EC-4DE0-B177-A9629C0B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D4218-8750-4B15-9CD6-4BBC8DE0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5EAF-CF35-4410-B14E-BE4EAC1D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4A3A-8D15-4E0C-A48D-916C5A8D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CA3D-3ADF-4BE6-98CE-B292F3C9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AB75-355B-47F0-8A1A-076D39D9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3339-695A-4582-87B0-5797B9D9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1374-40F0-497D-9848-208A1099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0751-45EC-45B8-842C-1CB70552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A6D5F-714B-4C65-A647-CD065608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092C-3F98-48BA-BE2A-E42BFE8F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A59C-47A1-4E36-92B1-CFB46623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C6A3-57D7-4773-A3DD-B623B57F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5624-2D07-4195-9616-53C0FDDB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67F2-CE86-458A-BFC7-EAF90759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2023A-8721-4E79-B6E0-90FF2DDB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4AB07-A3A1-42A8-9772-89648433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5337E-DCD4-4332-A555-C0045B36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EB38-8D11-4EF0-8574-DF339C5F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807CE-BD2E-4020-BE99-DFA25D4E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261F3-6A99-45C9-9E70-7DD4FCCF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ECF54-4779-4710-BA21-DCB33043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DE08-C066-4C19-82A5-F2A83D289B5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E9D0-0E36-4D75-B203-E93B64E3F80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691640"/>
            <a:ext cx="11131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8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58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лко мило е туй им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Отец дал Сину Свой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чрез Него надари 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мир небесен и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й-блажено име, най-блажено им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небето слезна за всички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нгели възпяха, кога хора спях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мето на наший мил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 в сърце ми влива радост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светът не дава я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й и мисъл, пълна с сладост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за мен Христос страд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й-блажено име, най-блажено им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небето слезна за всички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нгели възпяха, кога хора спях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мето на наший мил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хор със ангели небесн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мето на наший Спас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й възпейте в славни песн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мърт прие Исус за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й-блажено име, най-блажено им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небето слезна за всички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нгели възпяха, кога хора спях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мето на наший мил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57:00Z</dcterms:modified>
  <cp:revision>45</cp:revision>
  <dc:subject/>
  <dc:title>Slide 1</dc:title>
</cp:coreProperties>
</file>